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9360" y="15235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9360" y="4269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520" y="15235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9840" y="15235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520" y="42699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9840" y="42699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9360" y="15235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51080" y="245196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9360" y="15235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9360" y="15235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9360" y="42699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9360" y="15235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1360" y="1143000"/>
            <a:ext cx="7721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129528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30880" y="-1764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F40F-7E01-4C87-B71C-BC14B59493B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4648320" cy="2904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3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ache Coherence in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calable Machin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23800" y="546120"/>
            <a:ext cx="452124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Full-Map Directori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: one bit per processor + dirty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: presence or absence in processor’s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: only one cache has a dirty copy &amp; it is 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ine: valid and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546120"/>
            <a:ext cx="619776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asic Operation of Full-Map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37240" y="1917720"/>
            <a:ext cx="4178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processor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cache-block in memory: k  presence-bits, 1 dirty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cache-block in cache:    1 valid bit, and 1 dirty (owner)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1640" y="1371600"/>
            <a:ext cx="4330800" cy="2590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200" y="4355640"/>
            <a:ext cx="8369280" cy="2487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from main memory by processor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rty-bit OFF then { read from main memory; turn p[i] O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rty-bit ON   then { recall line from dirty proc (cache state to shared); update memory; turn dirty-bit OFF; turn p[i] ON; supply recalled data to i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o main memory by processor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rty-bit OFF then { supply data to i; send invalidations to all caches that have the block; turn dirty-bit ON; turn p[i] ON; ...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1280" y="546120"/>
            <a:ext cx="20066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43000" y="2895480"/>
            <a:ext cx="609480" cy="533520"/>
            <a:chOff x="1143000" y="2895480"/>
            <a:chExt cx="609480" cy="533520"/>
          </a:xfrm>
        </p:grpSpPr>
        <p:sp>
          <p:nvSpPr>
            <p:cNvPr id="118" name=""/>
            <p:cNvSpPr/>
            <p:nvPr/>
          </p:nvSpPr>
          <p:spPr>
            <a:xfrm>
              <a:off x="1143000" y="2895480"/>
              <a:ext cx="60948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21120" y="297180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09680" y="2895480"/>
            <a:ext cx="609480" cy="533520"/>
            <a:chOff x="2209680" y="2895480"/>
            <a:chExt cx="609480" cy="533520"/>
          </a:xfrm>
        </p:grpSpPr>
        <p:sp>
          <p:nvSpPr>
            <p:cNvPr id="121" name=""/>
            <p:cNvSpPr/>
            <p:nvPr/>
          </p:nvSpPr>
          <p:spPr>
            <a:xfrm>
              <a:off x="2209680" y="2895480"/>
              <a:ext cx="60948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7800" y="297180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505320" y="2895480"/>
            <a:ext cx="609480" cy="533520"/>
            <a:chOff x="3505320" y="2895480"/>
            <a:chExt cx="609480" cy="533520"/>
          </a:xfrm>
        </p:grpSpPr>
        <p:sp>
          <p:nvSpPr>
            <p:cNvPr id="124" name=""/>
            <p:cNvSpPr/>
            <p:nvPr/>
          </p:nvSpPr>
          <p:spPr>
            <a:xfrm>
              <a:off x="3505320" y="2895480"/>
              <a:ext cx="60948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3440" y="297180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990720" y="220968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220968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219320"/>
            <a:ext cx="335268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7040" y="3564000"/>
            <a:ext cx="852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5880" y="3581280"/>
            <a:ext cx="852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1160" y="3581280"/>
            <a:ext cx="852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6480" y="1430280"/>
            <a:ext cx="3452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1447920"/>
            <a:ext cx="91440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1447920"/>
            <a:ext cx="30456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447920"/>
            <a:ext cx="12189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52640" y="1430280"/>
            <a:ext cx="38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81480" y="2895480"/>
            <a:ext cx="609480" cy="533520"/>
            <a:chOff x="5181480" y="2895480"/>
            <a:chExt cx="609480" cy="533520"/>
          </a:xfrm>
        </p:grpSpPr>
        <p:sp>
          <p:nvSpPr>
            <p:cNvPr id="139" name=""/>
            <p:cNvSpPr/>
            <p:nvPr/>
          </p:nvSpPr>
          <p:spPr>
            <a:xfrm>
              <a:off x="5181480" y="2895480"/>
              <a:ext cx="60948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9600" y="297180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248520" y="2895480"/>
            <a:ext cx="609480" cy="533520"/>
            <a:chOff x="6248520" y="2895480"/>
            <a:chExt cx="609480" cy="533520"/>
          </a:xfrm>
        </p:grpSpPr>
        <p:sp>
          <p:nvSpPr>
            <p:cNvPr id="142" name=""/>
            <p:cNvSpPr/>
            <p:nvPr/>
          </p:nvSpPr>
          <p:spPr>
            <a:xfrm>
              <a:off x="6248520" y="2895480"/>
              <a:ext cx="60948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6640" y="297180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543800" y="2895480"/>
            <a:ext cx="609480" cy="533520"/>
            <a:chOff x="7543800" y="2895480"/>
            <a:chExt cx="609480" cy="533520"/>
          </a:xfrm>
        </p:grpSpPr>
        <p:sp>
          <p:nvSpPr>
            <p:cNvPr id="145" name=""/>
            <p:cNvSpPr/>
            <p:nvPr/>
          </p:nvSpPr>
          <p:spPr>
            <a:xfrm>
              <a:off x="7543800" y="2895480"/>
              <a:ext cx="60948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920" y="297180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029200" y="220968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20968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220968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1219320"/>
            <a:ext cx="335268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9280" y="3581280"/>
            <a:ext cx="90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5320" y="1430280"/>
            <a:ext cx="3452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1447920"/>
            <a:ext cx="91440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1447920"/>
            <a:ext cx="304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447920"/>
            <a:ext cx="121932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91480" y="1430280"/>
            <a:ext cx="38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96240" y="228600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62920" y="228600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34520" y="228600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562720" y="160020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160020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1600200"/>
            <a:ext cx="1143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429000" y="6019920"/>
            <a:ext cx="609480" cy="533160"/>
            <a:chOff x="3429000" y="6019920"/>
            <a:chExt cx="609480" cy="533160"/>
          </a:xfrm>
        </p:grpSpPr>
        <p:sp>
          <p:nvSpPr>
            <p:cNvPr id="164" name=""/>
            <p:cNvSpPr/>
            <p:nvPr/>
          </p:nvSpPr>
          <p:spPr>
            <a:xfrm>
              <a:off x="3429000" y="6019920"/>
              <a:ext cx="609480" cy="533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7120" y="609588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95680" y="6019920"/>
            <a:ext cx="609480" cy="533160"/>
            <a:chOff x="4495680" y="6019920"/>
            <a:chExt cx="609480" cy="533160"/>
          </a:xfrm>
        </p:grpSpPr>
        <p:sp>
          <p:nvSpPr>
            <p:cNvPr id="167" name=""/>
            <p:cNvSpPr/>
            <p:nvPr/>
          </p:nvSpPr>
          <p:spPr>
            <a:xfrm>
              <a:off x="4495680" y="6019920"/>
              <a:ext cx="609480" cy="533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3800" y="609588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791320" y="6019920"/>
            <a:ext cx="609480" cy="533160"/>
            <a:chOff x="5791320" y="6019920"/>
            <a:chExt cx="609480" cy="533160"/>
          </a:xfrm>
        </p:grpSpPr>
        <p:sp>
          <p:nvSpPr>
            <p:cNvPr id="170" name=""/>
            <p:cNvSpPr/>
            <p:nvPr/>
          </p:nvSpPr>
          <p:spPr>
            <a:xfrm>
              <a:off x="5791320" y="6019920"/>
              <a:ext cx="609480" cy="533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9440" y="609588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276720" y="533412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533412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533412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43400"/>
            <a:ext cx="335268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2480" y="4554360"/>
            <a:ext cx="3452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572000"/>
            <a:ext cx="914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572000"/>
            <a:ext cx="304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572000"/>
            <a:ext cx="12189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8640" y="4554360"/>
            <a:ext cx="38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82040" y="541008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724280"/>
            <a:ext cx="1143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45960" y="546120"/>
            <a:ext cx="487692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Example: Explanation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esent in no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rocessor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 does a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hits but has no write per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makes write request; P3 st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sends invalidate requests to C1 and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and C2 invalidate theirs line and ack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receives ack, sets dirty, sends write permission to 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writes cached copy and sets line dirty; P3 res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waits for ack to ass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tom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040" y="546120"/>
            <a:ext cx="647712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Full-Map Scalability (storage)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 bits per memor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memory is also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x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 for MPs with a few 10s of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r N, # of pointers is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50880" y="546120"/>
            <a:ext cx="42670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imited Directori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fixed number of pointers p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number of processors to exceed number of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s explicitly identify sha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i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? What to do when sharers is &gt; number of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CTION: invalidate one of existing copies to accommodate a new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well when “worker-set” of sharers is just larger than # of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546120"/>
            <a:ext cx="642636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imited Directories: Exampl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90720" y="3048120"/>
            <a:ext cx="609480" cy="533160"/>
            <a:chOff x="990720" y="3048120"/>
            <a:chExt cx="609480" cy="533160"/>
          </a:xfrm>
        </p:grpSpPr>
        <p:sp>
          <p:nvSpPr>
            <p:cNvPr id="191" name=""/>
            <p:cNvSpPr/>
            <p:nvPr/>
          </p:nvSpPr>
          <p:spPr>
            <a:xfrm>
              <a:off x="990720" y="3048120"/>
              <a:ext cx="609480" cy="533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8840" y="312408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057400" y="3048120"/>
            <a:ext cx="609480" cy="533160"/>
            <a:chOff x="2057400" y="3048120"/>
            <a:chExt cx="609480" cy="533160"/>
          </a:xfrm>
        </p:grpSpPr>
        <p:sp>
          <p:nvSpPr>
            <p:cNvPr id="194" name=""/>
            <p:cNvSpPr/>
            <p:nvPr/>
          </p:nvSpPr>
          <p:spPr>
            <a:xfrm>
              <a:off x="2057400" y="3048120"/>
              <a:ext cx="609480" cy="533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35520" y="312408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52680" y="3048120"/>
            <a:ext cx="609480" cy="533160"/>
            <a:chOff x="3352680" y="3048120"/>
            <a:chExt cx="609480" cy="533160"/>
          </a:xfrm>
        </p:grpSpPr>
        <p:sp>
          <p:nvSpPr>
            <p:cNvPr id="197" name=""/>
            <p:cNvSpPr/>
            <p:nvPr/>
          </p:nvSpPr>
          <p:spPr>
            <a:xfrm>
              <a:off x="3352680" y="3048120"/>
              <a:ext cx="609480" cy="533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30800" y="312408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8080" y="236232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236232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36232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371600"/>
            <a:ext cx="335304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7280" y="3733920"/>
            <a:ext cx="852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4200" y="1582560"/>
            <a:ext cx="3452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160020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160020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1600200"/>
            <a:ext cx="121932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00360" y="1582560"/>
            <a:ext cx="38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05120" y="243828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43400" y="243828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371600" y="175248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752480"/>
            <a:ext cx="15238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34120" y="3048120"/>
            <a:ext cx="609480" cy="533160"/>
            <a:chOff x="5334120" y="3048120"/>
            <a:chExt cx="609480" cy="533160"/>
          </a:xfrm>
        </p:grpSpPr>
        <p:sp>
          <p:nvSpPr>
            <p:cNvPr id="214" name=""/>
            <p:cNvSpPr/>
            <p:nvPr/>
          </p:nvSpPr>
          <p:spPr>
            <a:xfrm>
              <a:off x="5334120" y="3048120"/>
              <a:ext cx="609480" cy="533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12240" y="312408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400800" y="3048120"/>
            <a:ext cx="609480" cy="533160"/>
            <a:chOff x="6400800" y="3048120"/>
            <a:chExt cx="609480" cy="533160"/>
          </a:xfrm>
        </p:grpSpPr>
        <p:sp>
          <p:nvSpPr>
            <p:cNvPr id="217" name=""/>
            <p:cNvSpPr/>
            <p:nvPr/>
          </p:nvSpPr>
          <p:spPr>
            <a:xfrm>
              <a:off x="6400800" y="3048120"/>
              <a:ext cx="609480" cy="533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78920" y="312408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96080" y="3048120"/>
            <a:ext cx="609480" cy="533160"/>
            <a:chOff x="7696080" y="3048120"/>
            <a:chExt cx="609480" cy="533160"/>
          </a:xfrm>
        </p:grpSpPr>
        <p:sp>
          <p:nvSpPr>
            <p:cNvPr id="220" name=""/>
            <p:cNvSpPr/>
            <p:nvPr/>
          </p:nvSpPr>
          <p:spPr>
            <a:xfrm>
              <a:off x="7696080" y="3048120"/>
              <a:ext cx="609480" cy="533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74200" y="312408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181480" y="236232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236232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0120" y="2362320"/>
            <a:ext cx="9144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1371600"/>
            <a:ext cx="335304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7600" y="1582560"/>
            <a:ext cx="3452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60020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160020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600200"/>
            <a:ext cx="121932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43760" y="1582560"/>
            <a:ext cx="38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39240" y="243828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1752480"/>
            <a:ext cx="759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15000" y="175248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48520" y="243828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2960" y="546120"/>
            <a:ext cx="716292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imited Directories: Alternativ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ystem has broadcast cap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using EV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rt to BROADCAST when # of sharers is &gt; # of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50880" y="546120"/>
            <a:ext cx="42670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imited Directori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umber of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broadcast/no broadcast (B/N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s explicitly address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“broadcast” bit in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when # of sharers is &gt; # of pointers pe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ell when there are a lot of readers to same shared data; few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ell when number of sharers is just larger than the number of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0800" y="546120"/>
            <a:ext cx="680724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imited Directories: Scalability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is still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entries stays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entry grows by O(l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 x l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better than Full-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really depends on degree of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8640" y="1677960"/>
          <a:ext cx="8609040" cy="49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677960"/>
                    <a:ext cx="860904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3781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us-Based Multiprocessor 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form of multiprocess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o medium-scale servers: 4-32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tel/DELL Pentium II, Sun UltraEnterprise 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"/>
              </a:lnSpc>
              <a:spcBef>
                <a:spcPts val="29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IMITED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91160" y="3327480"/>
            <a:ext cx="1440" cy="317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2200" y="2946240"/>
            <a:ext cx="5638680" cy="482760"/>
          </a:xfrm>
          <a:prstGeom prst="rect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81080" y="1676520"/>
            <a:ext cx="952560" cy="1269720"/>
            <a:chOff x="1981080" y="1676520"/>
            <a:chExt cx="952560" cy="1269720"/>
          </a:xfrm>
        </p:grpSpPr>
        <p:sp>
          <p:nvSpPr>
            <p:cNvPr id="50" name=""/>
            <p:cNvSpPr/>
            <p:nvPr/>
          </p:nvSpPr>
          <p:spPr>
            <a:xfrm>
              <a:off x="2054160" y="1676520"/>
              <a:ext cx="805680" cy="57132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2438280"/>
              <a:ext cx="952560" cy="317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20640" y="224784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20640" y="2755800"/>
              <a:ext cx="0" cy="190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300480" y="1676520"/>
            <a:ext cx="950760" cy="1269720"/>
            <a:chOff x="3300480" y="1676520"/>
            <a:chExt cx="950760" cy="1269720"/>
          </a:xfrm>
        </p:grpSpPr>
        <p:sp>
          <p:nvSpPr>
            <p:cNvPr id="55" name=""/>
            <p:cNvSpPr/>
            <p:nvPr/>
          </p:nvSpPr>
          <p:spPr>
            <a:xfrm>
              <a:off x="3373560" y="1676520"/>
              <a:ext cx="804240" cy="57132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00480" y="2438280"/>
              <a:ext cx="950760" cy="317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8960" y="224784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38960" y="2755800"/>
              <a:ext cx="0" cy="190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083280" y="1676520"/>
            <a:ext cx="950760" cy="1269720"/>
            <a:chOff x="6083280" y="1676520"/>
            <a:chExt cx="950760" cy="1269720"/>
          </a:xfrm>
        </p:grpSpPr>
        <p:sp>
          <p:nvSpPr>
            <p:cNvPr id="60" name=""/>
            <p:cNvSpPr/>
            <p:nvPr/>
          </p:nvSpPr>
          <p:spPr>
            <a:xfrm>
              <a:off x="6156360" y="1676520"/>
              <a:ext cx="804240" cy="57132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83280" y="2438280"/>
              <a:ext cx="950760" cy="317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21760" y="224784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21760" y="2755800"/>
              <a:ext cx="0" cy="190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471920" y="224784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40040" y="3581280"/>
            <a:ext cx="1903680" cy="762120"/>
          </a:xfrm>
          <a:prstGeom prst="rect">
            <a:avLst/>
          </a:prstGeom>
          <a:solidFill>
            <a:srgbClr val="063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7960" y="37339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Snoopy-Bus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1960" y="546120"/>
            <a:ext cx="444492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hained Directori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list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list that passes through sharing c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I (Scalable Coherent Interface, IEEE stand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gN) overhead in memory  &amp;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82320" y="546120"/>
            <a:ext cx="660420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hained Directories: Exampl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371600"/>
            <a:ext cx="449604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83520" y="3733920"/>
            <a:ext cx="852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7240" y="1600200"/>
            <a:ext cx="3452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1600200"/>
            <a:ext cx="297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5840" y="1600200"/>
            <a:ext cx="119052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3400" y="1600200"/>
            <a:ext cx="38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1752480"/>
            <a:ext cx="182880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971800"/>
            <a:ext cx="59544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21120" y="3048120"/>
            <a:ext cx="45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286000"/>
            <a:ext cx="135072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2971800"/>
            <a:ext cx="5950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8680" y="3048120"/>
            <a:ext cx="45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286000"/>
            <a:ext cx="13510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962520" y="2286000"/>
            <a:ext cx="1350720" cy="1219320"/>
            <a:chOff x="3962520" y="2286000"/>
            <a:chExt cx="1350720" cy="1219320"/>
          </a:xfrm>
        </p:grpSpPr>
        <p:sp>
          <p:nvSpPr>
            <p:cNvPr id="258" name=""/>
            <p:cNvSpPr/>
            <p:nvPr/>
          </p:nvSpPr>
          <p:spPr>
            <a:xfrm>
              <a:off x="4343400" y="2971800"/>
              <a:ext cx="59544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21520" y="3048120"/>
              <a:ext cx="459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62520" y="2286000"/>
              <a:ext cx="135072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83520" y="2362320"/>
              <a:ext cx="650160" cy="340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52880" y="2362320"/>
              <a:ext cx="485640" cy="340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120" y="4156200"/>
            <a:ext cx="449568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0920" y="4384800"/>
            <a:ext cx="3452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4384800"/>
            <a:ext cx="2966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49520" y="4384800"/>
            <a:ext cx="119052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7080" y="4384800"/>
            <a:ext cx="38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4537080"/>
            <a:ext cx="76320" cy="5684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5756400"/>
            <a:ext cx="595440" cy="53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832360"/>
            <a:ext cx="45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5070600"/>
            <a:ext cx="13510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14600" y="5756400"/>
            <a:ext cx="595440" cy="53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2720" y="5832360"/>
            <a:ext cx="45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5070600"/>
            <a:ext cx="135072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5756400"/>
            <a:ext cx="595440" cy="53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5200" y="5832360"/>
            <a:ext cx="45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5070600"/>
            <a:ext cx="13510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07200" y="514656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76560" y="5146560"/>
            <a:ext cx="4856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4720" y="5105520"/>
            <a:ext cx="6501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22640" y="5105520"/>
            <a:ext cx="5007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5257800"/>
            <a:ext cx="1676520" cy="1143000"/>
          </a:xfrm>
          <a:custGeom>
            <a:avLst/>
            <a:gdLst/>
            <a:ahLst/>
            <a:rect l="l" t="t" r="r" b="b"/>
            <a:pathLst>
              <a:path w="1056" h="720">
                <a:moveTo>
                  <a:pt x="0" y="0"/>
                </a:moveTo>
                <a:lnTo>
                  <a:pt x="0" y="720"/>
                </a:lnTo>
                <a:lnTo>
                  <a:pt x="1056" y="720"/>
                </a:lnTo>
                <a:lnTo>
                  <a:pt x="1056" y="144"/>
                </a:lnTo>
              </a:path>
            </a:pathLst>
          </a:custGeom>
          <a:noFill/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15920" y="546120"/>
            <a:ext cx="713736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hained Dir: Line Replacement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e conc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 cache Ci wants to replace it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reakoff th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 all Ci+1 to 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y previous cache of next cache and splic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keep info about previous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y-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directory pointers to trans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memory required for directory links per cac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68120" y="546120"/>
            <a:ext cx="523260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hained Dir: Scalability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size grows with O(l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grows with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ntry per cac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lines grow with 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 x l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ation time grows with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09680" y="1066320"/>
            <a:ext cx="4648320" cy="3617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3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ache Coherence in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calable Machin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733560" y="546120"/>
            <a:ext cx="170172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-Based 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Entr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(s) to cached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/cl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es of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MAP: N processors -&gt; N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: fixed number of pointers (usually sm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NED: link copies together, directory holds head of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4432320" cy="51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asic H/W DS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-Coherent NUMA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CNU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pages of memory over machin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node for every memo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directory maintains shar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cached directly in processor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id is stored in global page table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ce at cache block gran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4612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asic H/W DSM (Cont.)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600200"/>
            <a:ext cx="8534520" cy="3657600"/>
            <a:chOff x="609480" y="1600200"/>
            <a:chExt cx="8534520" cy="3657600"/>
          </a:xfrm>
        </p:grpSpPr>
        <p:grpSp>
          <p:nvGrpSpPr>
            <p:cNvPr id="295" name=""/>
            <p:cNvGrpSpPr/>
            <p:nvPr/>
          </p:nvGrpSpPr>
          <p:grpSpPr>
            <a:xfrm>
              <a:off x="609480" y="1600200"/>
              <a:ext cx="3733920" cy="3200400"/>
              <a:chOff x="609480" y="1600200"/>
              <a:chExt cx="3733920" cy="3200400"/>
            </a:xfrm>
          </p:grpSpPr>
          <p:sp>
            <p:nvSpPr>
              <p:cNvPr id="296" name=""/>
              <p:cNvSpPr/>
              <p:nvPr/>
            </p:nvSpPr>
            <p:spPr>
              <a:xfrm>
                <a:off x="1600200" y="1600200"/>
                <a:ext cx="914400" cy="838080"/>
              </a:xfrm>
              <a:prstGeom prst="ellipse">
                <a:avLst/>
              </a:prstGeom>
              <a:solidFill>
                <a:srgbClr val="063d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57400" y="2438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00200" y="2590920"/>
                <a:ext cx="914400" cy="609480"/>
              </a:xfrm>
              <a:prstGeom prst="rect">
                <a:avLst/>
              </a:prstGeom>
              <a:solidFill>
                <a:srgbClr val="063d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ac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7400" y="3200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47560" y="3581280"/>
                <a:ext cx="121932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SM 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66880" y="38862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47760" y="3581280"/>
                <a:ext cx="1295640" cy="609840"/>
              </a:xfrm>
              <a:prstGeom prst="rect">
                <a:avLst/>
              </a:prstGeom>
              <a:solidFill>
                <a:srgbClr val="063d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emo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143000" y="3886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09480" y="3276720"/>
                <a:ext cx="533520" cy="114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i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57400" y="4114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410080" y="1600200"/>
              <a:ext cx="3733920" cy="3200400"/>
              <a:chOff x="5410080" y="1600200"/>
              <a:chExt cx="3733920" cy="3200400"/>
            </a:xfrm>
          </p:grpSpPr>
          <p:sp>
            <p:nvSpPr>
              <p:cNvPr id="307" name=""/>
              <p:cNvSpPr/>
              <p:nvPr/>
            </p:nvSpPr>
            <p:spPr>
              <a:xfrm>
                <a:off x="6400800" y="1600200"/>
                <a:ext cx="914400" cy="838080"/>
              </a:xfrm>
              <a:prstGeom prst="ellipse">
                <a:avLst/>
              </a:prstGeom>
              <a:solidFill>
                <a:srgbClr val="063d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58000" y="2438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00800" y="2590920"/>
                <a:ext cx="914400" cy="609480"/>
              </a:xfrm>
              <a:prstGeom prst="rect">
                <a:avLst/>
              </a:prstGeom>
              <a:solidFill>
                <a:srgbClr val="063d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ac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8000" y="3200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248160" y="3581280"/>
                <a:ext cx="1219320" cy="533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SM 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467480" y="38862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48360" y="3581280"/>
                <a:ext cx="1295640" cy="609840"/>
              </a:xfrm>
              <a:prstGeom prst="rect">
                <a:avLst/>
              </a:prstGeom>
              <a:solidFill>
                <a:srgbClr val="063d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emo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943600" y="3886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10080" y="3276720"/>
                <a:ext cx="533520" cy="114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i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58000" y="4114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523880" y="4800600"/>
              <a:ext cx="5562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458200" y="4266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91160" y="4572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me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666880" y="2895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00400" y="26668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ched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4612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Allocating &amp; Mapping Memory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you allocate global memory (G_MAL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n Unix, basic allocator calls sbrk() (or shm_sbrk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rk is a call to map a virtual page to a physic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MP, the page tables all reside in one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page tables are all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DSM =&gt; Static assignment of PTE’s to nodes based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if base shm VA starts at 0x3000000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age 0x30000 goes to nod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page 0x30001 goes to 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89040" y="546120"/>
            <a:ext cx="419112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herence Model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ing only of priv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y 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y 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herence - as if all was not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8640" y="1677960"/>
          <a:ext cx="8609040" cy="49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677960"/>
                    <a:ext cx="860904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51080" y="546120"/>
            <a:ext cx="1066680" cy="4713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istributed Shared Memory (DSM)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form of larg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GI Origin, Sequent NUMA-Q, Convex Exemp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9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CALABL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45040" y="21337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280" y="-35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983880" y="2505240"/>
            <a:ext cx="1104840" cy="742680"/>
          </a:xfrm>
          <a:prstGeom prst="rect">
            <a:avLst/>
          </a:prstGeom>
          <a:solidFill>
            <a:srgbClr val="063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2096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06760" y="2666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2520" y="3505320"/>
            <a:ext cx="7239240" cy="533160"/>
          </a:xfrm>
          <a:prstGeom prst="rect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35360" y="3581280"/>
            <a:ext cx="3219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rconn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3035160" y="2428560"/>
            <a:ext cx="1104840" cy="743040"/>
          </a:xfrm>
          <a:prstGeom prst="rect">
            <a:avLst/>
          </a:prstGeom>
          <a:solidFill>
            <a:srgbClr val="063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718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235560" y="2428560"/>
            <a:ext cx="1104840" cy="743040"/>
          </a:xfrm>
          <a:prstGeom prst="rect">
            <a:avLst/>
          </a:prstGeom>
          <a:solidFill>
            <a:srgbClr val="063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722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64560" y="2590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64160" y="2590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391520" y="1447920"/>
            <a:ext cx="952560" cy="1164600"/>
            <a:chOff x="7391520" y="1447920"/>
            <a:chExt cx="952560" cy="1164600"/>
          </a:xfrm>
        </p:grpSpPr>
        <p:sp>
          <p:nvSpPr>
            <p:cNvPr id="85" name=""/>
            <p:cNvSpPr/>
            <p:nvPr/>
          </p:nvSpPr>
          <p:spPr>
            <a:xfrm>
              <a:off x="7464600" y="1447920"/>
              <a:ext cx="806400" cy="61740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91520" y="2270160"/>
              <a:ext cx="952560" cy="342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31080" y="206532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191120" y="1447920"/>
            <a:ext cx="952560" cy="1164600"/>
            <a:chOff x="4191120" y="1447920"/>
            <a:chExt cx="952560" cy="1164600"/>
          </a:xfrm>
        </p:grpSpPr>
        <p:sp>
          <p:nvSpPr>
            <p:cNvPr id="89" name=""/>
            <p:cNvSpPr/>
            <p:nvPr/>
          </p:nvSpPr>
          <p:spPr>
            <a:xfrm>
              <a:off x="4264200" y="1447920"/>
              <a:ext cx="806400" cy="61740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2270160"/>
              <a:ext cx="952560" cy="342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30680" y="206532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9840" y="1523880"/>
            <a:ext cx="952560" cy="1165320"/>
            <a:chOff x="2139840" y="1523880"/>
            <a:chExt cx="952560" cy="1165320"/>
          </a:xfrm>
        </p:grpSpPr>
        <p:sp>
          <p:nvSpPr>
            <p:cNvPr id="93" name=""/>
            <p:cNvSpPr/>
            <p:nvPr/>
          </p:nvSpPr>
          <p:spPr>
            <a:xfrm>
              <a:off x="2212920" y="1523880"/>
              <a:ext cx="806400" cy="61776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9840" y="2346480"/>
              <a:ext cx="952560" cy="342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79400" y="214164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82520" y="546120"/>
            <a:ext cx="340380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sults: P-thor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327" name="fig3p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61680" y="0"/>
            <a:ext cx="60706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sults: Weather &amp; Speech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329" name="fig3w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3382920"/>
          </a:xfrm>
          <a:prstGeom prst="rect">
            <a:avLst/>
          </a:prstGeom>
          <a:ln w="0">
            <a:noFill/>
          </a:ln>
        </p:spPr>
      </p:pic>
      <p:pic>
        <p:nvPicPr>
          <p:cNvPr id="330" name="fig3s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8458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17640" y="546120"/>
            <a:ext cx="373392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aching Useful?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-map vs. caching only of priv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applications shown full-map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caching considered bene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for two applications (not sh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map is worse than caching of private data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Network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essage size smaller when no sharing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o reuse of sha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0800" y="546120"/>
            <a:ext cx="68072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imited Directory Performanc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sha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of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hor does prett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degree of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ïve-synchronization: flag + counter (everyone goes for same addre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much worse than Full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9280" y="546120"/>
            <a:ext cx="70102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hained-Directory Performanc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s cause sequential invalidat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&amp; Frequently Sha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o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between Doubly and Singly linked is repla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ignificant difference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y-linked better, but bot by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th the extra complexity and stor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ments rare in specific work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ed-Directories better than limited, often close to Full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73120" y="546120"/>
            <a:ext cx="622296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ystem-Level Optimization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Widely and Frequently Sha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 Barriers in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ïve barri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+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node has to access each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counter and then spin on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ASHING in limite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Tre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 nodes up in Log N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evel i,notify your neighb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a tre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54000" y="546120"/>
            <a:ext cx="54608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ree-Barriers in Weather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2NB and Dir4NB perform close to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1NB still not so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ers from other shared data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fig4w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546120"/>
            <a:ext cx="759456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ad-Only Optimization in Speech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ominant structures which are read-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Block-level: not efficient (can’t identify whole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Word-level: as good a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fig4s" descr="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0" y="1219320"/>
            <a:ext cx="9144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2080" y="546120"/>
            <a:ext cx="792468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rite-Once Optimization in Weather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50288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ritten once i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private by making a local, privat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EXECUTION TIME NOT UTILIZATIO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wo" descr=""/>
          <p:cNvPicPr/>
          <p:nvPr/>
        </p:nvPicPr>
        <p:blipFill>
          <a:blip r:embed="rId1"/>
          <a:stretch/>
        </p:blipFill>
        <p:spPr>
          <a:xfrm>
            <a:off x="0" y="1143000"/>
            <a:ext cx="88390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04760" y="546120"/>
            <a:ext cx="535932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arse Vector Schem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the processors into groups, s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identifies group, not exact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it is set, messages need to be send to each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when number of sharers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4360" y="546120"/>
            <a:ext cx="762012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calable Cache Coherent System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144756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, distributed memory plus coherent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 distributed memory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C-M nodes connected by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assist interprets network transactions, form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physica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miss satisfied transparently from local or remot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tendency of cache is to repl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her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roadcast medium to snoop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hardware latency/bw, but also protocol must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1640" y="546120"/>
            <a:ext cx="416556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parse Directori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needs directory information for non-cached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-entries NOT associated with each memory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we have a DIRECTORY-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07440"/>
            <a:ext cx="6705360" cy="3622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3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irectory-Based Systems: Case Studi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79760" y="546120"/>
            <a:ext cx="22096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oadmap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H system and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65080" y="546120"/>
            <a:ext cx="563868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A Popular Middle Ground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“hierarch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nodes are multiprocessors, connected non-hiearc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mesh of S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ce across nodes is director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keeps track of nodes, not individual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ce within nodes is snooping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gonal, but needs a good interface of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x Exemplar: directory-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, Data General, HAL: directory-sno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68200" y="546120"/>
            <a:ext cx="68324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Example Two-level Hierarchi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82400" y="546120"/>
            <a:ext cx="82040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Advantages of Multiprocessor Nod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for cost and performance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rtization of node fixed costs over multiple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commodity S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nodes for directory to keep trac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communication may be contained within node (che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s prefetch data for each other (fewer “remote” mi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of requests (like hierarchical, only two-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even share caches (overlapping of working s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depend on sharing pattern (and map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widely read-shared: e.g. tree data in Barnes-H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nearest-neighbor, if properly m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o good for all-to-al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3480" y="546120"/>
            <a:ext cx="83818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isadvantages of Coherent MP Nod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shared among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-to-all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increases latency to loc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herence, typically wait for local snoop results before sending remo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opy bus at remote node increases delays there too, increasing latency and reducing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may hurt performance if sharing patterns don’t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240" y="546120"/>
            <a:ext cx="142236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ASH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Research System (Stanf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shared memory system with cache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Syste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n top of existing, commodity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-based 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built and 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47840" y="546120"/>
            <a:ext cx="467352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ystem Organization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bus-based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on of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27160" y="2649600"/>
            <a:ext cx="13874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048120"/>
            <a:ext cx="137160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18080" y="2649600"/>
            <a:ext cx="13874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3048120"/>
            <a:ext cx="137160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58320" y="3809880"/>
            <a:ext cx="105552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3657600"/>
            <a:ext cx="358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52480" y="34290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4290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365760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3505320"/>
            <a:ext cx="121896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53080" y="36576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79440" y="5164200"/>
            <a:ext cx="13874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5562720"/>
            <a:ext cx="137160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70360" y="5164200"/>
            <a:ext cx="138744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5562720"/>
            <a:ext cx="137160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55627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10600" y="6324480"/>
            <a:ext cx="105552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61722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05120" y="5943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5943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9000" y="617220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86400" y="6019920"/>
            <a:ext cx="121932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61722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3886200"/>
            <a:ext cx="0" cy="10666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6207800">
            <a:off x="5235480" y="4590720"/>
            <a:ext cx="3733920" cy="34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connection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47840" y="546120"/>
            <a:ext cx="467352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ystem Organization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394" name="dash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867640" cy="54370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s organized by 2D M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1800" y="546120"/>
            <a:ext cx="772164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hat Must a Coherent System Do?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t of states, state transition diagram, and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coherenc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)  Determine when to invoke coherence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 Find source of info about state of line in other c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need to communicate with other cached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 Find out where the other copi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Communicate with those copies  (inval/up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 is done the same way on al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the line is maintained in the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is invoked if an “access fault” occurs on t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pproaches distinguished by (a) to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90560" y="546120"/>
            <a:ext cx="398772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ache Coherenc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oping within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ies among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-map directories in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Directory Memory: P x P x M /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12.5% overh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rse Directories/Directory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of sharing: small, &lt; 2 about 9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65080" y="546120"/>
            <a:ext cx="56386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ache Coherence: Stat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ach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present in any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-modified in one or more c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in only one cache 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27200" y="546120"/>
            <a:ext cx="411480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emory Hierarchy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levels of mem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dash3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5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50680" y="546120"/>
            <a:ext cx="74674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emory Hierarchy and CC, contd.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oping coherence within local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cluster provides data it has for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cluster provides data it owns (dirty) for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info not changed in the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es leaving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onsult hom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the same as local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state request may be transferred to a remot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2080" y="546120"/>
            <a:ext cx="79246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ache Coherence Operation: Read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esent locally, supply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go to local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luster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esent in cache, supply locally; no st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go to home clust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Cluster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at state and fetches line from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lock is clean, send data to requester/state changed to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lock is dirty, forward request to remote cluster holding dir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Clus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 cluster sends data to requester, marks copy shared and writes back a copy to home clust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546120"/>
            <a:ext cx="79502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ache Coherence Operation: Writ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rty and present locally, write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go to local clust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lus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exclusive request is made on local cluster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wned in a cluster cache, transfer to requ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go to home clust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Clus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esent/uncached or shared, supply data and invalidate all other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esent/dirty, read-exclusive request forwarded to remote dirty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Clus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validate request is received, invalidate and ack (is sha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dX request is received, respond directly to requesting cluster and send dirty-transfer message to home cluster level indicating new owner of dirt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546120"/>
            <a:ext cx="429264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nsistency Model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Consist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completion of operations before a critical section is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ce” operations to implement stronger consistency via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l until read is performed (commercial C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can bypass pending writes and releases (not acqu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o buffer; stall if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proceed when ownership is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are overl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38280" y="546120"/>
            <a:ext cx="429264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nsistency Model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l until acquire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ypass pending writes and rel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release to writ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for all previous writes and rel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06360" y="546120"/>
            <a:ext cx="67564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emory Access Optimization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stall on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contr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binding pre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load at the actual plac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lusive prefetch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know that will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-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update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all cached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a set of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mult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3480" y="546120"/>
            <a:ext cx="838188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emory Access Optimizations, contd.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-based 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indicates which nodes are sp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is chosen at random and given 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tch&amp;Inc and Fetch&amp;Dec for uncached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08160" y="546120"/>
            <a:ext cx="495288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us-based Coherenc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(a), (b), (c) done through broadcast on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ing processor sends out a “search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respond to the search probe and take necessary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o it in scalable network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to all processors, and let them res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ly simple, but broadcast doesn’t scale with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bus, bus bandwidth doesn’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calable network, every fault leads to at least  p network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 coh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same cache states and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mechanisms to manage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52480" y="546120"/>
            <a:ext cx="56642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ASH Prototype - Cluster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IPS R3000 Procs + Fp CoProcs /33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I Powerstation motherboard re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B I + 64K D caches + 256KB unified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rect-mapped and 16-lin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inois protocol (MESI) within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 Bus pipelined but not split-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ed retry “fakes” split transaction for remo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. is NACKed and has to retry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bus bandwidth: 64Mbytes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68200" y="546120"/>
            <a:ext cx="68324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ASH Prototype - Interconnect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of me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re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it wide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mhole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y messages can always be consu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request and reply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ks to break request-request dead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44720" y="546120"/>
            <a:ext cx="347976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irectory Logic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Controller Board (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is full-map (16-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s all outward bound network requests and re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X-dimension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y Controller Board (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and Buffers remote replies via remote access cache (R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pseudo-CP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requests to cluster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Y-dimension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1640" y="546120"/>
            <a:ext cx="830592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Example: Read to Remote/Dirty Block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0520" y="1523880"/>
            <a:ext cx="3522960" cy="108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CPU issues read on b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forced to r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C entry is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sends Read-Req to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69840" y="1963800"/>
            <a:ext cx="3204360" cy="108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PCPU issues read on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 entry in dirty 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forwards Read-Req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87120" y="3200400"/>
            <a:ext cx="4179600" cy="83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PCPU issues Sharing-Write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b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updates directory state to 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2800" y="1125360"/>
            <a:ext cx="968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148520" y="1506600"/>
            <a:ext cx="866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5960" y="4707000"/>
            <a:ext cx="4982760" cy="108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PCPU issues read on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data sourced by dirty cache ont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sends Read-Rply to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sends Sharing Writeback to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62520" y="1447920"/>
            <a:ext cx="2286000" cy="60948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96" y="432"/>
                </a:moveTo>
                <a:cubicBezTo>
                  <a:pt x="48" y="460"/>
                  <a:pt x="0" y="488"/>
                  <a:pt x="48" y="432"/>
                </a:cubicBezTo>
                <a:cubicBezTo>
                  <a:pt x="96" y="376"/>
                  <a:pt x="224" y="160"/>
                  <a:pt x="384" y="96"/>
                </a:cubicBezTo>
                <a:cubicBezTo>
                  <a:pt x="544" y="32"/>
                  <a:pt x="824" y="0"/>
                  <a:pt x="1008" y="48"/>
                </a:cubicBezTo>
                <a:cubicBezTo>
                  <a:pt x="1192" y="96"/>
                  <a:pt x="1340" y="240"/>
                  <a:pt x="1488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91680" y="1371600"/>
            <a:ext cx="307080" cy="340560"/>
          </a:xfrm>
          <a:prstGeom prst="rect">
            <a:avLst/>
          </a:prstGeom>
          <a:solidFill>
            <a:srgbClr val="11d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772400" y="2552760"/>
            <a:ext cx="1308240" cy="2476440"/>
          </a:xfrm>
          <a:custGeom>
            <a:avLst/>
            <a:gdLst/>
            <a:ahLst/>
            <a:rect l="l" t="t" r="r" b="b"/>
            <a:pathLst>
              <a:path w="824" h="1560">
                <a:moveTo>
                  <a:pt x="0" y="24"/>
                </a:moveTo>
                <a:cubicBezTo>
                  <a:pt x="248" y="12"/>
                  <a:pt x="496" y="0"/>
                  <a:pt x="624" y="72"/>
                </a:cubicBezTo>
                <a:cubicBezTo>
                  <a:pt x="752" y="144"/>
                  <a:pt x="752" y="272"/>
                  <a:pt x="768" y="456"/>
                </a:cubicBezTo>
                <a:cubicBezTo>
                  <a:pt x="784" y="640"/>
                  <a:pt x="824" y="992"/>
                  <a:pt x="720" y="1176"/>
                </a:cubicBezTo>
                <a:cubicBezTo>
                  <a:pt x="616" y="1360"/>
                  <a:pt x="380" y="1460"/>
                  <a:pt x="144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80800" y="4554360"/>
            <a:ext cx="307080" cy="340560"/>
          </a:xfrm>
          <a:prstGeom prst="rect">
            <a:avLst/>
          </a:prstGeom>
          <a:solidFill>
            <a:srgbClr val="11d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6640" y="1219320"/>
            <a:ext cx="1169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2640" y="4191120"/>
            <a:ext cx="1169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51160" y="3733920"/>
            <a:ext cx="1320840" cy="1028520"/>
          </a:xfrm>
          <a:custGeom>
            <a:avLst/>
            <a:gdLst/>
            <a:ahLst/>
            <a:rect l="l" t="t" r="r" b="b"/>
            <a:pathLst>
              <a:path w="832" h="648">
                <a:moveTo>
                  <a:pt x="160" y="576"/>
                </a:moveTo>
                <a:cubicBezTo>
                  <a:pt x="172" y="612"/>
                  <a:pt x="184" y="648"/>
                  <a:pt x="160" y="624"/>
                </a:cubicBezTo>
                <a:cubicBezTo>
                  <a:pt x="136" y="600"/>
                  <a:pt x="0" y="504"/>
                  <a:pt x="16" y="432"/>
                </a:cubicBezTo>
                <a:cubicBezTo>
                  <a:pt x="32" y="360"/>
                  <a:pt x="120" y="264"/>
                  <a:pt x="256" y="192"/>
                </a:cubicBezTo>
                <a:cubicBezTo>
                  <a:pt x="392" y="120"/>
                  <a:pt x="612" y="60"/>
                  <a:pt x="8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03520" y="3868560"/>
            <a:ext cx="447480" cy="340560"/>
          </a:xfrm>
          <a:prstGeom prst="rect">
            <a:avLst/>
          </a:prstGeom>
          <a:solidFill>
            <a:srgbClr val="11d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98680" y="2666880"/>
            <a:ext cx="1549440" cy="2692440"/>
          </a:xfrm>
          <a:custGeom>
            <a:avLst/>
            <a:gdLst/>
            <a:ahLst/>
            <a:rect l="l" t="t" r="r" b="b"/>
            <a:pathLst>
              <a:path w="976" h="1696">
                <a:moveTo>
                  <a:pt x="976" y="1632"/>
                </a:moveTo>
                <a:cubicBezTo>
                  <a:pt x="700" y="1664"/>
                  <a:pt x="424" y="1696"/>
                  <a:pt x="304" y="1632"/>
                </a:cubicBezTo>
                <a:cubicBezTo>
                  <a:pt x="184" y="1568"/>
                  <a:pt x="216" y="1376"/>
                  <a:pt x="256" y="1248"/>
                </a:cubicBezTo>
                <a:cubicBezTo>
                  <a:pt x="296" y="1120"/>
                  <a:pt x="584" y="976"/>
                  <a:pt x="544" y="864"/>
                </a:cubicBezTo>
                <a:cubicBezTo>
                  <a:pt x="504" y="752"/>
                  <a:pt x="32" y="720"/>
                  <a:pt x="16" y="576"/>
                </a:cubicBezTo>
                <a:cubicBezTo>
                  <a:pt x="0" y="432"/>
                  <a:pt x="224" y="216"/>
                  <a:pt x="44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1400" y="3564000"/>
            <a:ext cx="433800" cy="340560"/>
          </a:xfrm>
          <a:prstGeom prst="rect">
            <a:avLst/>
          </a:prstGeom>
          <a:solidFill>
            <a:srgbClr val="11d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57040" y="3487680"/>
            <a:ext cx="99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.-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90720" y="3182760"/>
            <a:ext cx="1056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-R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5680" y="4325760"/>
            <a:ext cx="1159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49080" y="546120"/>
            <a:ext cx="607068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ad-Excl. to Shared Block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5720" y="1353960"/>
            <a:ext cx="4463280" cy="108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CPU’s write buffer issues RdX on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s forced to r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C entry is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sends RdX Req to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7160" y="2573280"/>
            <a:ext cx="4981320" cy="1326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RC receives RdX reply w/ data and in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; releases CPU arbi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buffer repeats RdX and RAX resp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/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buffer retires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0840" y="4038480"/>
            <a:ext cx="4655160" cy="83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RAC entry invalidate count is dec.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nv.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0, RAC is de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1600" y="5164200"/>
            <a:ext cx="4435560" cy="83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PU issues rdX on bus to inv. 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sends Inv.Ack to requesting 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88440" y="1963800"/>
            <a:ext cx="3053520" cy="157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PCPU issues rdX on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 entry is 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sends Inv.Req to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ies &amp; RdX.Rply w/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nv count to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 updates state to di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1359000"/>
            <a:ext cx="2895840" cy="622080"/>
          </a:xfrm>
          <a:custGeom>
            <a:avLst/>
            <a:gdLst/>
            <a:ahLst/>
            <a:rect l="l" t="t" r="r" b="b"/>
            <a:pathLst>
              <a:path w="1824" h="392">
                <a:moveTo>
                  <a:pt x="0" y="248"/>
                </a:moveTo>
                <a:cubicBezTo>
                  <a:pt x="68" y="168"/>
                  <a:pt x="136" y="88"/>
                  <a:pt x="384" y="56"/>
                </a:cubicBezTo>
                <a:cubicBezTo>
                  <a:pt x="632" y="24"/>
                  <a:pt x="1248" y="0"/>
                  <a:pt x="1488" y="56"/>
                </a:cubicBezTo>
                <a:cubicBezTo>
                  <a:pt x="1728" y="112"/>
                  <a:pt x="1768" y="336"/>
                  <a:pt x="1824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66200" y="1278000"/>
            <a:ext cx="307080" cy="340560"/>
          </a:xfrm>
          <a:prstGeom prst="rect">
            <a:avLst/>
          </a:prstGeom>
          <a:solidFill>
            <a:srgbClr val="11d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057400"/>
            <a:ext cx="83808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96"/>
                </a:moveTo>
                <a:cubicBezTo>
                  <a:pt x="468" y="48"/>
                  <a:pt x="408" y="0"/>
                  <a:pt x="336" y="0"/>
                </a:cubicBezTo>
                <a:cubicBezTo>
                  <a:pt x="264" y="0"/>
                  <a:pt x="152" y="40"/>
                  <a:pt x="96" y="96"/>
                </a:cubicBezTo>
                <a:cubicBezTo>
                  <a:pt x="40" y="152"/>
                  <a:pt x="20" y="244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04440" y="1887480"/>
            <a:ext cx="433800" cy="340560"/>
          </a:xfrm>
          <a:prstGeom prst="rect">
            <a:avLst/>
          </a:prstGeom>
          <a:solidFill>
            <a:srgbClr val="11d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72200" y="3581280"/>
            <a:ext cx="609480" cy="1600200"/>
          </a:xfrm>
          <a:custGeom>
            <a:avLst/>
            <a:gdLst/>
            <a:ahLst/>
            <a:rect l="l" t="t" r="r" b="b"/>
            <a:pathLst>
              <a:path w="384" h="1008">
                <a:moveTo>
                  <a:pt x="384" y="0"/>
                </a:moveTo>
                <a:cubicBezTo>
                  <a:pt x="252" y="76"/>
                  <a:pt x="120" y="152"/>
                  <a:pt x="96" y="240"/>
                </a:cubicBezTo>
                <a:cubicBezTo>
                  <a:pt x="72" y="328"/>
                  <a:pt x="256" y="400"/>
                  <a:pt x="240" y="528"/>
                </a:cubicBezTo>
                <a:cubicBezTo>
                  <a:pt x="224" y="656"/>
                  <a:pt x="112" y="83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77120" y="3581280"/>
            <a:ext cx="609480" cy="1524240"/>
          </a:xfrm>
          <a:custGeom>
            <a:avLst/>
            <a:gdLst/>
            <a:ahLst/>
            <a:rect l="l" t="t" r="r" b="b"/>
            <a:pathLst>
              <a:path w="384" h="1008">
                <a:moveTo>
                  <a:pt x="384" y="0"/>
                </a:moveTo>
                <a:cubicBezTo>
                  <a:pt x="252" y="76"/>
                  <a:pt x="120" y="152"/>
                  <a:pt x="96" y="240"/>
                </a:cubicBezTo>
                <a:cubicBezTo>
                  <a:pt x="72" y="328"/>
                  <a:pt x="256" y="400"/>
                  <a:pt x="240" y="528"/>
                </a:cubicBezTo>
                <a:cubicBezTo>
                  <a:pt x="224" y="656"/>
                  <a:pt x="112" y="83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38880" y="4114800"/>
            <a:ext cx="523800" cy="587160"/>
          </a:xfrm>
          <a:prstGeom prst="rect">
            <a:avLst/>
          </a:prstGeom>
          <a:solidFill>
            <a:srgbClr val="11d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876920"/>
            <a:ext cx="3060720" cy="1523880"/>
          </a:xfrm>
          <a:custGeom>
            <a:avLst/>
            <a:gdLst/>
            <a:ahLst/>
            <a:rect l="l" t="t" r="r" b="b"/>
            <a:pathLst>
              <a:path w="1928" h="960">
                <a:moveTo>
                  <a:pt x="1920" y="720"/>
                </a:moveTo>
                <a:cubicBezTo>
                  <a:pt x="1924" y="772"/>
                  <a:pt x="1928" y="824"/>
                  <a:pt x="1776" y="864"/>
                </a:cubicBezTo>
                <a:cubicBezTo>
                  <a:pt x="1624" y="904"/>
                  <a:pt x="1200" y="960"/>
                  <a:pt x="1008" y="960"/>
                </a:cubicBezTo>
                <a:cubicBezTo>
                  <a:pt x="816" y="960"/>
                  <a:pt x="752" y="936"/>
                  <a:pt x="624" y="864"/>
                </a:cubicBezTo>
                <a:cubicBezTo>
                  <a:pt x="496" y="792"/>
                  <a:pt x="344" y="672"/>
                  <a:pt x="240" y="528"/>
                </a:cubicBezTo>
                <a:cubicBezTo>
                  <a:pt x="136" y="384"/>
                  <a:pt x="68" y="192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952880"/>
            <a:ext cx="3848400" cy="1739880"/>
          </a:xfrm>
          <a:custGeom>
            <a:avLst/>
            <a:gdLst/>
            <a:ahLst/>
            <a:rect l="l" t="t" r="r" b="b"/>
            <a:pathLst>
              <a:path w="2424" h="1096">
                <a:moveTo>
                  <a:pt x="2400" y="672"/>
                </a:moveTo>
                <a:cubicBezTo>
                  <a:pt x="2412" y="740"/>
                  <a:pt x="2424" y="808"/>
                  <a:pt x="2352" y="864"/>
                </a:cubicBezTo>
                <a:cubicBezTo>
                  <a:pt x="2280" y="920"/>
                  <a:pt x="2160" y="976"/>
                  <a:pt x="1968" y="1008"/>
                </a:cubicBezTo>
                <a:cubicBezTo>
                  <a:pt x="1776" y="1040"/>
                  <a:pt x="1432" y="1096"/>
                  <a:pt x="1200" y="1056"/>
                </a:cubicBezTo>
                <a:cubicBezTo>
                  <a:pt x="968" y="1016"/>
                  <a:pt x="776" y="944"/>
                  <a:pt x="576" y="768"/>
                </a:cubicBezTo>
                <a:cubicBezTo>
                  <a:pt x="376" y="592"/>
                  <a:pt x="188" y="29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43400" y="6172200"/>
            <a:ext cx="523800" cy="587160"/>
          </a:xfrm>
          <a:prstGeom prst="rect">
            <a:avLst/>
          </a:prstGeom>
          <a:solidFill>
            <a:srgbClr val="11dd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7880" y="1049400"/>
            <a:ext cx="968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34320" y="1582560"/>
            <a:ext cx="866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29400" y="4859280"/>
            <a:ext cx="1159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124080" y="546120"/>
            <a:ext cx="29210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ome issu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H Protocol : 3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 : 4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H: A writer provides a read copy directly to the requestor (Also implemented in SGI Orig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writes back the copy to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 between updating home and cac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4-hop to 3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30320" y="546120"/>
            <a:ext cx="530856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Performance: Latenci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p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p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+ p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ing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0% to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Sca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ncy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PU speed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: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dash1" descr=""/>
          <p:cNvPicPr/>
          <p:nvPr/>
        </p:nvPicPr>
        <p:blipFill>
          <a:blip r:embed="rId1"/>
          <a:stretch/>
        </p:blipFill>
        <p:spPr>
          <a:xfrm>
            <a:off x="3624120" y="1066680"/>
            <a:ext cx="5519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24080" y="546120"/>
            <a:ext cx="29210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for up to 64 pr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up over uni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inear for 3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al Efficie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tion w/ n+1 procs/ Utilization w/ n pr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Hardware: 16 pr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close for on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 for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 much bett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40000" y="546120"/>
            <a:ext cx="88884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CI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omple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 each node has to pro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list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y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storage requirements in the 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: SCI is in the cache, hence SRAM vs. DRAM in D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327120" y="546120"/>
            <a:ext cx="251460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CI, contd.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o block shared by 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ch from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ogate memory for head of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as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 previous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ill no other no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 + 6 transc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SCI has included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 structures instead of link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oprocessor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12520" y="546120"/>
            <a:ext cx="754380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calable Approach #2: Directori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067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memory block has associated director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copies of cached blocks and thei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miss, find directory entry, look it up, and communicate only with the nodes that have copies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calable networks, comm. with directory and copies is throug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3040" y="3214800"/>
            <a:ext cx="6818400" cy="31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0520" y="6407280"/>
            <a:ext cx="8701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ternatives for organizing director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69640" y="546120"/>
            <a:ext cx="6832440" cy="51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caling with No. of Processor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0840" y="1828440"/>
            <a:ext cx="8750520" cy="4028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of memory and directory bandwidth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5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zed directory is bandwidth bottleneck, just like centraliz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5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of 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: no. of network transactions  each time protocol is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ncy = no. of network transactions in critical path ea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of directory storag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esence bits needed grows as the number of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rectory is organized affects all these, performance at a target scale, as well as coherence manage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0920" y="546120"/>
            <a:ext cx="6147000" cy="98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irectory-Based Coherenc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Entr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(s) to cached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/cl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es of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MAP: N processors -&gt; N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: fixed number of pointers (usually sm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NED: link copies together, directory holds head of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2T19:44:06Z</dcterms:created>
  <dc:creator>Jaswinder Pal Singh</dc:creator>
  <dc:description/>
  <dc:language>en-US</dc:language>
  <cp:lastModifiedBy>Bill Barkayannis</cp:lastModifiedBy>
  <cp:lastPrinted>2001-03-29T17:22:19Z</cp:lastPrinted>
  <dcterms:modified xsi:type="dcterms:W3CDTF">2004-01-20T13:11:29Z</dcterms:modified>
  <cp:revision>114</cp:revision>
  <dc:subject/>
  <dc:title>   Cache Coherence in  Large-Scale Machines</dc:title>
</cp:coreProperties>
</file>